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180-07F3-4724-AC51-CBA3A42C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F2C0-DDD2-4A5B-8B1A-200E6AEC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B1F3-DF69-4926-BD34-F1A779A6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5A2-1E04-4C5E-B7E2-DA22D660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LIKE THIS SLIDE OR THE NEXT ONE OR BO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03E-FFA9-46F4-9B96-71AD461D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52A-F49C-4D3A-83BF-4E8F278F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3793-60CE-41BF-99EF-9DD90481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B27-8171-49DB-A30B-EB25CC51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8E46-6AF8-4BB0-990F-D29070C8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B088-EA87-4BAE-A27E-6CF061CD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9D8-3555-4342-B52A-121B9F46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A9E2-A39C-4246-A0E2-3E9CA471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ECC-FD82-4700-BCE8-2A113621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7EDA-542B-4A56-886F-7369F0E8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8125-D434-4096-B95C-C79BC732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469F-2CA8-49F4-AC3D-892E1282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092-2799-4B45-A45B-70751D36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6B0-88CF-4048-A50F-BB4BC8A6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8B99-C3DD-4487-8ED6-FF98A82D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C8E-B93C-4162-951E-91E25ED6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a piece on the wiki they can down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6D5-0AED-4176-AC92-41F411A2C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bat is about 83 cm  and normal scissors is about 2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74F-0286-4D05-A965-E5BA05A5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1ED-BD28-431F-AB3D-74FCE830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3AF-8A43-4C4A-98B6-A59888B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F1C-5ADA-49C2-9911-191F08D2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DA5-1CAE-490E-97CD-E26CB85C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444-8A7D-4451-9E3E-A016F1E8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691-8725-43CE-B13B-76F8FAA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C21-70F6-4B01-A052-42BB035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31A-CB66-4AA5-A34D-600629C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C2F-8727-4328-A0CE-E4B7354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4D6-8A1E-4BB0-9BE3-53D0667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6FD-0A59-46E1-9765-5C8ADFF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98A-86AE-43AA-8579-C773BDC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6E4-5E55-4B61-8829-365C30B3DB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need one group to talk about thei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st of you think about what you’d say in respo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I will respond and talk about my rati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kind of feedback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Spinn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pinner where you are likely to spin 3 more reds than blues in 10 sp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re reds than blues are you likely to spin in 15 sp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need one group to talk about thei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st of you think about what you’d say in respo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I’ll actually do it and talk about my rati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kind of feedback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Mix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mixed 2 containers of yellow paint with 3 same-sized containers of blue paint to mak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nne mixed 2.5 containers of yellow paint with 3.5 same-sized containers of blue 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paints the same sh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Mix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mixed 2 containers of yellow paint with 3 same-sized containers of blue paint to mak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nne also mixed yellow and blue paint. But her paint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a litt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lue than Jane’s. What numbers of same–sized containers could she have mix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rtional reasoning involves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berate use of multiplicative relationship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pare quantities and to predict the value of one quantity based on the values of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problems you tried relate to proportional reaso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k to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share a few id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hink of a number as a group of units of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you think of 15 as three 5s, you are thinking proportion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hink of 15 as 8 + 7, you are NOT thinking proportionally, even though there is nothing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Another “definition” of pr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riables p and q are related proportionally if the ratio of p to q doesn’t change when values of p and q change by the same fa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Or someone might say…..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492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unch is Papa Bear’s.  Draw a sandwich that would be right for baby b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88" name="Picture 6" descr="Screen shot 2011-06-20 at 11.54.15 AM.png"/>
          <p:cNvPicPr/>
          <p:nvPr/>
        </p:nvPicPr>
        <p:blipFill>
          <a:blip r:embed="rId1"/>
          <a:stretch/>
        </p:blipFill>
        <p:spPr>
          <a:xfrm>
            <a:off x="6858000" y="1371600"/>
            <a:ext cx="1797120" cy="138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creen shot 2011-06-20 at 11.55.41 AM.png"/>
          <p:cNvPicPr/>
          <p:nvPr/>
        </p:nvPicPr>
        <p:blipFill>
          <a:blip r:embed="rId2"/>
          <a:stretch/>
        </p:blipFill>
        <p:spPr>
          <a:xfrm>
            <a:off x="4572000" y="4267080"/>
            <a:ext cx="274968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 these percents as they apply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daily calorie intake that i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life that you’ve been a teacher/consultant/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staff that is 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the picture show you that     is less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o o o x              o o o o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o o o x              o o o 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05920" y="2819520"/>
          <a:ext cx="291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2819520"/>
                    <a:ext cx="29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362320" y="3276720"/>
          <a:ext cx="5713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76720"/>
                    <a:ext cx="571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decide that an increase from 1 to 5 is more significant than an increase from 96 to 106 because the percent increase is much more substantial, you are using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hen solving th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you get a penny every time someone in Ontario sneezes, how long would it take to become a million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ake a relatively small sample and multiply to generalize, you are using p.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666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student figures out the height of the tree, the student is using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Picture 4" descr="Screen shot 2011-06-15 at 9.27.17 PM.png"/>
          <p:cNvPicPr/>
          <p:nvPr/>
        </p:nvPicPr>
        <p:blipFill>
          <a:blip r:embed="rId1"/>
          <a:stretch/>
        </p:blipFill>
        <p:spPr>
          <a:xfrm>
            <a:off x="5664240" y="3886200"/>
            <a:ext cx="30988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your own interesting ex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to use a different context than you just s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is proportional reasoning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the percents in random 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 your neighbour to guess which percent is whi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 these percent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daily calorie intake that i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life that you’ve been a teacher/consultant/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staff that is 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the big ideas in algebraic thinking and proportional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using open questions and parallel tasks for DI and richer mathematics class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ast two camp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nt to build on what we’ve dealt with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continue to talk about the big ideas in both of those topics, but we will focus more on how to respond to student thinking in these ar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 now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e will share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ideas related to proportional reasoning we have been focusing on as a download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Let’s get to i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som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iant baseball bat is about 175 cm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iant pair of scissors is about 90 cm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of at least three different ways to compare their lengt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way do you think is be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How long are they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5:30:18Z</dcterms:created>
  <dc:creator>PSteele</dc:creator>
  <dc:description/>
  <dc:language>en-US</dc:language>
  <cp:lastModifiedBy>Marian Small</cp:lastModifiedBy>
  <dcterms:modified xsi:type="dcterms:W3CDTF">2011-06-20T16:00:27Z</dcterms:modified>
  <cp:revision>263</cp:revision>
  <dc:subject/>
  <dc:title>Slide 1</dc:title>
</cp:coreProperties>
</file>